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059-ACAC-43D9-8A8A-F3F03A7E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9E8-D869-423F-ADB7-6F2BCFA5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B65-8AAF-4C23-82AD-57F4F07B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80E-BDC1-4FAA-B029-9F6274F1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5BB-F0D4-47B9-A223-52E44311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BE4-A4B5-457D-ABD4-059C8620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E2D-C925-4CAF-90AC-D8A067CC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FB5-A319-4F84-894E-A9A1A423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ED7-2A65-43E6-B5A4-742736AA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EE9-C088-4DC0-A40F-DD5EB0F8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640-239A-4B3A-AE13-2203734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41F-D7E1-4AE5-A62E-ABEA13F6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953D-4A7B-4C72-B9BE-B24E76B8AF4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09:04:57Z</dcterms:created>
  <dc:creator>Grupo Editorial</dc:creator>
  <dc:description/>
  <dc:language>en-US</dc:language>
  <cp:lastModifiedBy>usuario</cp:lastModifiedBy>
  <dcterms:modified xsi:type="dcterms:W3CDTF">2009-09-01T17:22:32Z</dcterms:modified>
  <cp:revision>1</cp:revision>
  <dc:subject/>
  <dc:title>Sin título de diapositiva</dc:title>
</cp:coreProperties>
</file>